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AC2-022F-4876-BE88-3BC4065C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B52-7610-476D-B425-39EE83D7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975-A7C9-4937-84C2-3F90F336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583-DDCF-40BE-B681-34BEE186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34A8-2463-4575-9957-1DF8E829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FE9E-961D-4685-BFCF-D0AF1387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1B11-C2EF-4311-BE19-13E4DBE4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2C73-27D4-49AC-8148-8532F223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EB2F-83D8-4172-97FD-3838CEC3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CCF3-D9B6-4669-93E7-55C84A57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4981-7273-4D29-A9D6-58068EF3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82A-7178-48B3-A3A5-A5406E9D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F8CB-40D7-4A21-A85D-088EAEC2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5A51-CD73-47D8-99CD-A49792A4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C03C-6BB1-42C9-AE61-89107731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4A41-C1E0-4771-A540-9CC14D2C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CC3B-B509-4ADE-8203-06941E5C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B897-3211-488C-9691-4F560764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D9A-0DF6-4329-A3FC-C29A723F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618-FE66-4A2E-B723-A3F629D7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0E3-E232-4C60-9804-14301F2D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A63-1914-4312-A9EF-4BB2CFFE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311-7AB3-4BF0-8E8B-C2ADD609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711-DF62-4CA3-B46E-91B19F75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3C70-E696-4579-8689-2A413C08BB9F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525A-21A6-4980-900D-E382363364F2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: to use the order of operations to solve expression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Algebraic Express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 algebraic expression is an expression that contains at least one variable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u can evaluate an algebraic  expression by replacing each variable with a value and then applying the Order of Operation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5)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Evaluate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(5a + 2b) if a = 3 and b = -2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formula is a mathematical sentence that expresses the relationship between certain quantiti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you know the value for every variable in the formula except one, you can find the value of the remaining variabl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733920" y="5257800"/>
                <a:ext cx="119052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w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w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6)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Find the area of a rectangle if the length is 5cm and the width is 9cm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MD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 - parentheses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- ( ), [ ], { }, and absolute valu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- simplify within the grouping symbols firs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- if there is more than one grouping, start at the innermost symbol firs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MD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 - exponen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- evaluate all pow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MD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 &amp; 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 - multiplicat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 - divis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- you must simplify whichever comes first in the expression from LEFT to RIGH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EMD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&amp; 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- addit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 - subtract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- you must simplify whichever comes first in the expression from LEFT to RIGH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71600" y="2438280"/>
                <a:ext cx="45720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362320" y="1981080"/>
                <a:ext cx="266688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990720" y="1981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874880" y="2160720"/>
                <a:ext cx="266688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990720" y="1981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22600" y="2057400"/>
                <a:ext cx="396216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1981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9:04:18Z</dcterms:created>
  <dc:creator>PA Department of Education</dc:creator>
  <dc:description/>
  <dc:language>en-US</dc:language>
  <cp:lastModifiedBy>Parkland High School</cp:lastModifiedBy>
  <dcterms:modified xsi:type="dcterms:W3CDTF">2010-09-16T11:54:01Z</dcterms:modified>
  <cp:revision>5</cp:revision>
  <dc:subject/>
  <dc:title>Unit 1 Section 1.3 Order of Operations</dc:title>
</cp:coreProperties>
</file>